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0AAC-F9F8-4FAE-AB7D-263125C2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E384-411B-4311-AA18-02F9090D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AD86-A91E-401B-BBD1-D9613987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00F6-A8D2-414E-89BA-D08CD407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B88D-9BA3-4E61-B993-C9629216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9A29-C173-4BC8-9855-383AD9FC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26ED-557A-4E6B-8A50-3812F990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8087-C32D-49AA-9350-4D65FD6B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A76D-3923-4DB5-BAF4-BA0F1525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EE97-B6CA-4234-BA7A-602290FA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AB1A-2DB8-45CA-9B67-B21DE725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8467-F752-483E-A355-DF44BA64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843C-F3A0-4D09-97FA-98DBFFCB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57FA-3147-4E8F-B451-13CAE4E8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75CA-C62A-4E34-BCD6-88630377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2541-2106-4A7C-868A-6CD7503E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1C0D-B531-4DC5-A41B-7C98B059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9451-804E-4F13-A946-C6584AC7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DB3D-41DC-4ED1-A86B-C8B2DDBC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FC4A-69EF-4CD3-A41A-9C878C05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71B1-4C9D-4977-B72D-B697C2DF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EEE-10AF-47AC-8B58-EC744305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2539-7001-4370-81A2-4EDEE65E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55F0-436C-4E8A-B13F-46894922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F11A-671C-4E4E-866F-2DCFA416DA8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28D8-88D3-4350-AF8D-D6F51A677ED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99"/>
                </a:solidFill>
                <a:latin typeface="Arial"/>
              </a:rPr>
              <a:t>DOL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 to 8 seconds after you swallow your food is all ready in you’re stomach, it purees your food quick and efficien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rected Senten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Fou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 </a:t>
            </a: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eigh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econds after you swallow</a:t>
            </a: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your food is </a:t>
            </a: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alread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</a:t>
            </a: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you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tomach</a:t>
            </a: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;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stomach purees your food </a:t>
            </a: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quickl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lang="en-US" sz="3200" spc="-1" strike="noStrike">
                <a:solidFill>
                  <a:srgbClr val="ff5050"/>
                </a:solidFill>
                <a:latin typeface="Verdana"/>
              </a:rPr>
              <a:t>efficientl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ocused Freewri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uld you rather find true lo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d 10 million dollar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vocabulary squar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hapter 4-answer the following questions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re does Scout receive the majority of her education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does Scout find in the tree in the Radley house when she is alon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do Jem and Scout find in the hiding place together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do you think the objects got in the tre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did the children amuse themselves during Dill’s second summer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 you think their parents should have allowed them to play this gam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o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od is the emotions that you feel while you are reading. Some literature makes you feel sad, others joyful, still others, angry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 at handou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od Cont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 at the chapter we read for homework and describe what the mood is and what words the author uses to show this mood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Writing Activity-Homework, due Friday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ice how Harper Lee uses language to intensify the mood of terror and suspense as Jem trespasses on the Radley property. Describe a time when you were very frightened, or make up a scary situation. Use language that evokes all of your senses to recreate the feeling of terror that you experienced. Make the reader scared. 1 full pag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7:58:15Z</dcterms:created>
  <dc:creator>rebecca</dc:creator>
  <dc:description/>
  <dc:language>en-US</dc:language>
  <cp:lastModifiedBy>rebecca</cp:lastModifiedBy>
  <dcterms:modified xsi:type="dcterms:W3CDTF">2009-01-21T17:54:12Z</dcterms:modified>
  <cp:revision>4</cp:revision>
  <dc:subject/>
  <dc:title>DOL</dc:title>
</cp:coreProperties>
</file>